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6A3-4D10-4345-842E-2296D2DA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1E7-1E97-470A-9CE3-3639E31E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E0F-3A7B-4E86-98A8-10268B2B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DAC-C421-4B9F-8E73-4BB1F5F7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C494-1CAF-48DA-90A2-3F1FEAFD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AFBD-105A-4CBB-9CC2-B42D92CB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6510-B10B-4FEA-B90D-D458F50B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8663-DFAE-4ACC-B3B9-9A377F56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ABF2-4EBD-45D4-9A1F-98F9BA0F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6634-63F2-45A0-B1DB-86E3EA44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29F5-9913-403E-BEFC-52A3326F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B73-0531-41DF-B984-3FF64C2B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65B2-C8A6-43EA-80E7-C873B847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BBF4-B3D4-4984-BECF-F202A759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0CDE-223B-4CD3-9812-DDB3AC9E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D9FD-5C11-4ADE-8FB8-12AC1E88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20A3-4758-4828-A711-917A73EA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3D9-DC28-4365-BBB7-83F70D37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B70-5562-4C28-ABDC-9D867898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C05-F152-4770-ABFC-A5EAEAA4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995-3A72-4ED0-B939-8E5156A5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1B3-229B-4B72-B05D-403593C5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BE6-08F2-4872-B7C5-4EB6B8C0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362-135B-49FC-B7F6-1E0B74AC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A569-26CE-4E47-A5E0-1F68AA195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2C8C-F441-4C57-8561-68894C42E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pearsonsuccessnet.com/snpapp/learn/navigateIDP.do?method=productSelect&amp;currProd=0-13-361474-3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0p1ztrbXPY&amp;feature=player_embedded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outube.com/watch?v=STzOiRqzzL4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iffusion &amp; Osmo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ing to achieve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 you solve the problem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Textbook Myster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ntration Gradi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005000" cy="4876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029200" y="1600200"/>
            <a:ext cx="35812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qual amounts or at equilib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higher amount of wate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ower amount of water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6219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124080" y="0"/>
            <a:ext cx="5715000" cy="66294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ssive Transport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e” – lacks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ll membrane is naturally semi-perm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Lets see it in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kinds of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 or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lecules mo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re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ross the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cilitated Diffus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 of large molecules across the membrane with the help of membrane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aporin…water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quires NO energy from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es move along a concentration grad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from an area of greater concentration to less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The movement of gluco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ion of water through a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n by immovable solute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solute = low water co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solute = high water co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e cannot move acr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moves to balance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7925040" cy="41162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80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5334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7920" y="4343400"/>
            <a:ext cx="7596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2971440" y="434304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ation across the membrane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quires the use of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s molecules from an area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ow concentra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 high concentration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 transport…small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or io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k Transport…large or solid clump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 (endo means ins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 (exo means outs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Transport through the membrane"/>
          <p:cNvPicPr/>
          <p:nvPr/>
        </p:nvPicPr>
        <p:blipFill>
          <a:blip r:embed="rId1"/>
          <a:stretch/>
        </p:blipFill>
        <p:spPr>
          <a:xfrm>
            <a:off x="762120" y="8380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-152280" y="55627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Lets see it in 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1143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in p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962160" y="1295280"/>
            <a:ext cx="16002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facdifan.gif - 30.3 K"/>
          <p:cNvPicPr/>
          <p:nvPr/>
        </p:nvPicPr>
        <p:blipFill>
          <a:blip r:embed="rId3"/>
          <a:stretch/>
        </p:blipFill>
        <p:spPr>
          <a:xfrm>
            <a:off x="4343400" y="3886200"/>
            <a:ext cx="4419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3:17:20Z</dcterms:created>
  <dc:creator>joconnor</dc:creator>
  <dc:description/>
  <dc:language>en-US</dc:language>
  <cp:lastModifiedBy>joconnor</cp:lastModifiedBy>
  <dcterms:modified xsi:type="dcterms:W3CDTF">2009-11-05T01:30:42Z</dcterms:modified>
  <cp:revision>16</cp:revision>
  <dc:subject/>
  <dc:title>Diffusion &amp; Osmosis</dc:title>
</cp:coreProperties>
</file>